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9AFB-8A4C-47ED-BF4B-7CF9B68C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5876-9A08-405A-A8C6-D628AE1C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349F1-4AF3-41A6-B3D0-5950BA8A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FB01B-836F-4E6C-ABAC-D0505523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1FB4B-53DF-48F8-B9F3-272305EE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50085-506B-4BCB-A7B4-7FD69B60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B0A1E-C582-4A5D-8AFE-16E2D831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0AB6C-A48D-4BB5-B331-B8C4FEE4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2F66B-75D0-48EC-AEE4-37EF21CA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11C7E-CBF2-4632-9CEF-C61A718E0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42A8A-BBB7-4B0E-A1DE-1912F9B1D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E4BC5-81F9-44CE-81FD-A25F5354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15E7-8629-42CF-B633-AA091C65B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2895B-B2F5-485F-88FD-78F3633E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0EE5A-106F-4512-BA5F-98C62D19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49E7C-9665-4FC1-994F-00A224F9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AE1F0D-CDB8-4F74-A76B-3197D07A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693F5-3022-44D1-874F-0523C4F2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AE09E3-F2B8-4199-876A-DE1E7223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ACE1E-DF97-4188-983F-BBD6E6C5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3C98F-879B-4F9C-A2E5-47AAFCA8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71AB1-A27B-4C23-8283-3C48504D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FBFBE-3236-44AB-87C8-4A30BC4E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C582-5240-4FE8-9C07-F3E5BAC6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F83E7-3912-4D1B-8E05-30A442EE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58E7C-4FCF-4197-80A8-62543BEC6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DA2EB-6F62-462A-8E9B-BFEFD08F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9EEB4-CB67-4D47-8BDC-D3E90985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B1335-81B4-4DF3-B712-CFF5A195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797D5-6518-4532-83DD-0BE99801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2FAA5-CF4B-4179-8DCE-869CB6CD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3B673-29F0-4E1C-AEA9-75DDEB86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D4B59-2F2A-4A16-B489-4F3BDE4A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3BF54-2251-46D2-881B-60FDB552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6C8D-77CA-47B5-A1C3-21627E95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9DDC7-57F7-43CD-9AB4-8E5E6D5F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B37F9-7EB4-4E68-B63B-82854C01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A5D04-7581-4796-97CB-E129AC1C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7EDE85-856E-4531-AE76-7437A3CC6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4E04ED-6D11-4EC0-84A5-BD2A21E4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42A57-E3F1-4D50-97A1-50BB9DB9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431AC-1F7A-4BE7-B085-23DA893E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F528BA-8FC5-4EC9-87DF-38E5EDBA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E60535-6327-4341-BC42-6DB390E9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61F216-6073-4C00-91E3-040CB246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C6E6-F88F-4C09-A2EF-ED0AE1EC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5DDDA1-F3DB-492B-9550-07E56A24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02B09-B147-4D23-82AF-C73AD0EF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940C4-8B59-46EA-958D-E1A6699D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3FFA6-88F9-4DF8-A188-F3A0133F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FC340C-6290-41D3-BF87-5A4DDEA9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BB47-6879-4FBB-ACB3-03A19C74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0FE4-8F55-4051-A576-D95E8774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0F62-81B2-4BBD-9E39-F29B2117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9D96-3F6C-4660-ADB4-EE9D3077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6252-1C28-4A3E-B4A9-731E8575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D612-1930-4C30-8B15-9EDBBCF1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EF90-CEF8-413E-A0A8-85F79CA9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1843-60DF-4C06-A2F9-44616248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DDE4-445F-44B1-95AA-8BB715CA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015C-EFA3-4C8F-B179-83AE300B0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913A-C295-47E6-ACF2-503041234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C1DECF-A530-4221-A0F8-B1D42E16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6DA838-A8CB-4622-8AD8-EE28B7A8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F07931-0AD7-433B-9BD5-B5AFE143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10B133-D4AB-4F1F-9FCA-41D5BE7F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ABB11A-1C3A-4A9B-B3BE-8C199063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0201-2696-4281-919E-262C4E15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F41179-881E-40AD-84B1-A0BE1813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30CE73-AFB7-4593-9E68-DC591CE1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FACE56-7031-44B0-8DBD-253BD168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7E324A-5A27-4638-A2C2-B7E92730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DBAB26-2FB7-4A89-BD7A-C409C253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D99FD6-00F0-411C-9CBD-49605B7BE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474416-09FC-43AE-8914-76ED6BA77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FEEA5-ACCB-4F3E-A8C2-104B4B831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84658-FB38-4849-81EE-97E26A3E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D5C10-1967-4678-B96B-281555ED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5629-0AAB-40D7-B77C-619F40DE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87E9B-7B54-43B2-B7D5-F5997DAF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DDB61-F9B0-4A5D-A793-871549D8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E210A-E097-468C-B1B6-70AAAF9C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65916-7EEB-4D8A-A27A-70253902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91C95-AB6B-456A-A75D-C9A58677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A4351-F3EF-450F-B289-5A4EDB16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FBDC6-2D95-45FB-A566-4D496F4C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6BD78-220D-4EC1-846A-00B5340AE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B9736-FBEC-424C-8897-D314180B8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B58FB-3DB4-4914-9E01-9FF3DB56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D93D-E94C-4299-A01A-BA2FBEA7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266E3-B8CD-4893-99B7-B701F227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C026C-E1C3-4789-A55B-A8962E70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85BF9-A510-48AD-91AE-9AA64DA3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F4D93-2342-4AFE-97EA-46CCF7F9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08DBB-8615-49C0-B579-A2B474BD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5798D-6FEE-4357-AECF-B4CFCD54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7BF92-7922-488D-BF7D-BDCA1A6F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01960-F62B-4596-812E-B6AF1ACB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3F9F6-7F78-4BAA-9C55-6960088A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18273-B9A2-4FF9-9A6C-112FF819A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8801-F083-422B-8BA8-44AD93C1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31A28-EDD4-4B1C-93C7-3C55BF4A1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33A91-E653-4E47-B2AF-84C369D1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D5598-D89D-4B80-A4F1-3905C8C7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C5C56-CDEE-4238-AE92-93617240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94737-6B9D-4835-953F-956810D0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A4773-8AF6-4679-B86B-6A45F6A8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D34E3-39BA-41FB-B628-659E2A5A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51343-6F12-4965-857B-B4D63C81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6DAE6-3003-45E7-89AD-60E464F3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BF847-DFE2-4B3B-953E-C2C678AC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4E7F-9814-4DF8-B4F8-6CC45DAF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0CD24-E1EB-4AC5-B77A-43D595A8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9A273-BDF6-4B8F-98E8-14010D3E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E0969-8795-4ABE-800F-4B10F56EE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3C9AC-C6E5-4F98-805C-F1CDFC617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47036-2F9B-442A-A374-5DFF3102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604BA-BF7A-4A5B-A0A6-3CEA05F0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0FD0C-C2EA-4AA1-86C0-E538BF41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6753A-E922-4DDC-8234-B4A082C6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FB0E9-976B-4ECF-8918-FBDCAD23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DD4C7-6596-49C2-A428-9B7AF03B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626F-FE06-4FA5-8B19-34020DA2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E7E5B-DCF2-4FF3-B0B5-772CEC2B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2BD11-BA0E-4199-9B88-37DCC963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448A7-C418-496D-B71E-B579FEDF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E5850-90E7-403A-95C9-DBA9117E9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2850E-1447-4923-AAD5-E9FA55886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550E97-E2AA-4EFB-8CB7-0BF01FA83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8B6502-B67F-416F-8971-D8056FDE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58EC47-9AB9-4A5C-853C-71A87B28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D77511-1EAB-4FD0-9CDC-CE08C8A1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A1C4CF-CBD8-4320-9E2D-E784CCF3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77AE-532D-4BF5-B5E5-804A3333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94392E-CA32-4537-B13A-85DBBC49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CBD9BA-4754-4A1C-8EC6-BD5D7CD9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D31716-9174-41DD-93A7-4AAEBAB1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E00182-156B-43A0-A05B-D47EF435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5E062C-EF81-4D25-A0DF-5FC5751E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43D2BA-EEC0-484C-BB37-8327D035C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5378AE-6DC9-4659-9F9A-28B70F0C8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DC2D4-1EFE-4ABF-9A2C-BDDEADD45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22073-50B5-4FE0-81E1-A83D0279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76765-6C33-4F53-A2C0-30CCA246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27E9-1349-42B3-8B9F-C9F9E04A245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8CB4-BD7E-497E-A86A-0552BFBB00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946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4A9C-FE0E-4B0C-9DEE-57A68BF4E0B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03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5974-D546-45E5-8DFB-6A039FD7D4F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0A7C-D7D2-49C0-928C-C1BE201F215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6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7B1F-0358-4A8B-A638-F885168D5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41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81FE-3B18-437D-9948-D95B0E928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674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676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48F4-A368-4680-B2FB-56001BDEFE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721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723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727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0575-6E6F-44E2-B1B7-BB6F621E0C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C674-B872-491F-A376-BA89BAAE4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504F-BCA9-4F31-AEC1-CC45FFA94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5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34B4-42D6-4BA7-83E5-3C6CB69BE6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Имя существительное</a:t>
            </a: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5класс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Телицина Ирина Николаевна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учитель русского языка, 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Спасский район,с.Три Озера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dfdef6"/>
                </a:solidFill>
                <a:latin typeface="Arial"/>
              </a:rPr>
              <a:t>Морфологические признаки: 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2700000" y="2276280"/>
            <a:ext cx="5986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менение  п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исл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д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адеж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клонение  имен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уществительных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ерво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д.пад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 дороги   (у зем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ат.пад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дороге (по земл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едл.пад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 дороге (о земле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ько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в безударном оконч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учат неяс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тором и третьем склонениях  толь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ин вариант написания –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 скл.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3 скл.).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Имена существительные</a:t>
            </a:r>
            <a:br>
              <a:rPr sz="4000"/>
            </a:b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одушевленные и неодушевленные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2126880"/>
            <a:ext cx="8229600" cy="36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ушевленные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КТО  ЭТО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волк, лисица, заяц, тигр, лес, поляна, дом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душевленные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ЧТО  ЭТО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очаровательные ночи, струится свет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улыбающееся солнце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Имена собственные и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                    нарицательны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Город, деревня, океан, озеро, рек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н а р и ц а т е л ь н ы 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мена людей, названия рек, город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улиц пишутся с заглавной буквы 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являются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собствен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362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Род  имен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существительных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          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2842920"/>
            <a:ext cx="8229600" cy="32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Женский :       весна, земля…(- а, я -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Мужской :    дуб, брат, цвет, предмет…(- без окон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Средний :    кино, пальто, окно….( - о -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07:09:27Z</dcterms:created>
  <dc:creator>A0001</dc:creator>
  <dc:description/>
  <dc:language>en-US</dc:language>
  <cp:lastModifiedBy>A0001</cp:lastModifiedBy>
  <dcterms:modified xsi:type="dcterms:W3CDTF">2002-12-05T12:50:34Z</dcterms:modified>
  <cp:revision>12</cp:revision>
  <dc:subject/>
  <dc:title>  Имя существительное 5класс  Телицина Ирина Николаевна,учитель русского языка,Спасский район,с.Три Озера</dc:title>
</cp:coreProperties>
</file>